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3F3-001F-4C11-BF0E-A59BCE2A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F2D-BDFC-4011-B26C-406D2B01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6E8-37A1-4DA6-815D-BF3D13CF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8BA-0874-44F8-83E9-83E0FE62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909-9822-4FD7-8E95-78130188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EFF-543A-42F0-9D64-80CAF6B4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E2E-CF51-4685-80A7-C92B9870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D61-4608-42E3-A618-6A4CC7EF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47B-83AA-44F2-AD0F-9B18DA96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60A-1F47-41A3-A09F-9B7330F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462-A779-41B1-A9E1-EA8848A8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10F-1A16-4E95-9364-569AEB30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6A7A-BD21-4971-8D2B-FEF50645E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фармацеута у болничкој апоте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тендерске ли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полазни документ је болнички формула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изија болничког формулара једном годишње – појава нових лекова, опсолентних лекова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 формулар се пошаље свим одељењима, а стручни колегијуми образлажу додавање нових лекова у формулар, и предлажу количину потребних лек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тендерске ли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идирани формулари се упућују Комисији за леков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ија за лекове има право да са предложене листе уклони неоправдано уведен лек, уз детаљну стручну дискусију са колегијумом. (обавезна је анализа утицаја на буџе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ија за лекове мора да провери да ли су тражене количине одговарајуће (производ броја пацијената са одређеном индикацијом и количине лекова која је потребна једном пацијенту = количина лека која је била потребна у предходном периоду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тендерске ли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рно и правовремено снадбевање лековима!!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</a:t>
            </a:r>
            <a:r>
              <a:rPr b="0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не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ни су и следећи параметр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валитет услуге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т достављених лекова од тражених у року од 48 ча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 време чекања на доставу лек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а исправних лекова у односу на достављене, али 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намика напла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авка лекова ван тендерске лис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тна набавка, мање количине лекова за једног или неколико пацијен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ф апотеке треба добро да познаје систем добављача и њихово функционис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бавке мале вредности – по краћој процедур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 затражи од Управе за јавне набавке одобрење за хитну набавку ван тендерске ли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отрошње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ђународна јединица за мерење волумена потрошње лекова је број ДДД (дефинисана дневна доз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– је договорена доза лека коју је усвојила група експерата СЗО и која осликава најчешће прописивану дневну количину тог л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ДД није препорука за терапијску дозу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ћ јединица намењена за рачун и изражавање потрошње лек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отрошње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рачуна на 100 болесничких дана (за мерење потрошње лекова у болници), 1000 становника (у друштвеној заједниц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hocc.no/atc_ddd_index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е приказати у табели уз АТЦ код и издвајање лекова који чине 90% укупне потрошње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отрошње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чана вредност уз Д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% анализа – АБЦ анал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локалних прото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нерационално примењених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расподеле лекова у болн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два система расподеле лекова у болниц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расподеле јединичних доза (енглески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dose system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ан систем дистрибуције лекова у болниц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адиционалном систему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централна апотека болниц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 које се снабдевају сва одеље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аком одељењу постоји приручни депо леко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и закључан држи медицинска сестра, материјално задужена са свим лековима који се налазе у депо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сестра формира депо лекова на основу „требовања“ које мора одговарати одељењској листи леко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издаје леков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епоа особљу које ће их применити на пацијентим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лекове може издати само на основу захтева који је потписао ординирајући лека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 захтеву морају бити наведени име и презиме пацијента, број историје болести, дијагноза, прописани лекови и њихова доза. Медицинска сестра која држи депо лекова све ове захтеве архивира, јер они представљају „излаз“ из депоа, тј. оправдање за утрошак леков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љање лековима у болн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, набавка, прописивање, издавање, примена лекова, али и контрола свих наведених проц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ив доброг управљања болниц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економски знача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ан систем дистрибуције лекова у болн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сестра која држи депо лекова такође формира и занавља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ичину лекова за хитна стања, која одговара 72-часовној потрошњ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ви лекови се смештају у орман који је доступан свим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о да се могу одмах узети и применити када је то потреб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сестра занавља лекове за хитну примену у орману сваког дана, али само на основу извештаја лекара који је лекове применио (потписан извештај, са подацима о пацијенту, дијагнозама и употребљеним лековима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ан систем дистрибуције лекова у болн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оред кревета пацијента постоје посебни ормарићи за лекове који се могу закључати, из депоа се за одређеног пацијента може преузети и целокупна количина лека која му је потребна за време хоспитализације. Та количина се затим закључава у ормарићу, одакле га ординирајућа сестра узима и даје пацијенту, када је време за примену дозе лека. Ако оваквих ормарића нема, лекови се подижу за 24 часа или за вике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лека на пацијенту се мора забележити (било у свесци-протоколу или на посебној листи за примену лекова) и оверити потписом медицинске сестре која је лек применила, и медицинске сестре која је надзирала примену л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расподеле индивидуалне терапиј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расподеле индивидуалне терапије (СРИТ) је систем дистрибуције лекова у болници који подразумева расподелу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невних до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а пацијентима на одељењ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аки пацијент добија дневну дозу сваког свог лек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спаковану у кесице (ако се ради о оралним облицима лекова), или у оквиру дневне поделе терапије (ако се ради о парентералним препаратим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аког дана терапија се наново де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о да овај систем елиминише проблем који има традиционални систем дистрибуције лекова: шта урадити са лековима који су пацијенту издати, а он их није све потрошио у тренутку отпуста из болниц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ци система индивидуалне расподе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к 1. Лекари прописују дневну терапију за сваког пацијента на посебној листи (терапијска листа), или на тзв. колективном рецепту. У оба случаја, за сваког пацијента мора бити назначено: име и презиме, број историје болести, број собе и кревета, дијагноза, назив лека, облик лека (таблета, капсула, итд.), појединачна доза, дозни интервал, име и потпис лекара који је прописао терапију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к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е лекове за 24 часа издаје одељењска или централна апотека (зависно од величине болнице: установе са мање од 200 постеља могу организовати цео систем индивидуалне расподеле из централне апотеке; веће установе морају формирати тзв. „сателитске“ апотеке, које покривају до 100 постеља, обично у оквиру једне клинике или већег одељењ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 облици лекова за оралну или ректалну примену (таблете, капсуле, чепићи) се пакују у папирне или пластичне кесице – дневна доза сваког лека у посебну кесицу, за сваког пацијента. На кесици се мора написати (или залепити одштампана налепница) следеће: име и презиме пацијента, број собе и кревета, назив лека, облик, доза, пут и начин примене. Тако припремљене кесице се издају медицинског сестри са одељења, која их пакује на специјална колица, са претинцем за сваког болесника (односно постељу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за парентералну примену и течни лековити препарати за оралну или локалну примену се издају за све болеснике заједно, у количини потребној за 24 ча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сестра затим расподељује лекове пацијентима (оне које пацијент сам узима) или их директно примењује (у виду ињекција, клизми, итд.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к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делу лекова пацијентима и њихову примену треба да надзире фармацеутски техничар из сателитске или централне апоте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себној листи за примену лекова медицинска сестра уписује лекове које је дала пацијенту, односно применила их, и потписује 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техничар који надзире примену леков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 потписом на истој листи потврђује да је лек примењен на одговарајући начин или дат пацијенту у одговарајуће врем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к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аком систему дистрибуције лекова потребе пацијената су на првом месту; никада се не сме догодити да хитно затреба лек за неког пацијента, а да он није доступан. Зато се у оквиру система расподеле индивидуалне терапије на сваком одељењу формира орман са лековима за хитна стања (нпр. адреналин, метилпреднизолон, фуросемид, итд.), који садржи све лекове који би се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том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ељењу могли применити ургентно. Стручни колегијум одељења, уз помоћ клиничког фармаколога или фармацеута, треба да формира листу лекова који ће се налазити у орману, као и да одреди количине тих лекова потребне за 72 часа за максималан број болесника које то одељење може да при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формира листа, орман се попуни према њој, и од тада је откључан, а лекови доступни свим лекарима и медицинским сестрама на одељењу. Они у хитним ситуацијама, или за време дежурства, могу директно узети лек који им је неопходан; међутим, сваког радног дана орман се занавља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снову детаљног извештаја о утрошку лекова у претходних 24 часа или током претходног викенда. Извештај мора садржати: име и презиме пацијента, број собе и кревета, дијагнозу, лек који је утрошен, дозу и облик утрошеног лека, и разлог његове употребе. Извештај мора бити датиран, потписан, и са факсимилом лекара који га је потписа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к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тека која издаје лекове у СРИТ-у може да формира свој „излаз“, тј. да се „раздужи“ са лековима само кроз извештаје о издатим лековима за сваког пацијента. Тиме се обезбеђује потпуно праћење судбине сваког лека који је ушао у болничку апотеку, и онемогућавају се злоупотребе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система расподеле индивидуалне терап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ује прецизно праћење кретања сваке кутије лека кроз болницу до момента његове примене, чиме се смањује могућност ситне крађе леко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 контролу адекватности прописане терапије (контролише је клиички фармаколог или фармацеут)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 нег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то се терапија изда. Тиме се омогућава правовремено откривање грешака у прописивању (интеракције лекова, неодговарајућа доза, неодговарајућа индикација), и њихово кориговање пре него што су могле неповољно утицати на пацијен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 медицинске сестре посла око дистрибуције лекова и даје им више времена за негу пацијен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ише присуство непотребних лекова на одељењу, кроз утврђивање одељењске листе лекова, која је неопходна за започињање и одржавање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 СРИТ-а с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потреба за радном снагом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ва фармацеутска техничара на 100 постеља, веће присуство фармацеута на одељењим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терапија преписује са температурно-терапијске листе на колективни рецепт, увећава се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појаве грешк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то је много боље решење прописивање лекова на посебним терапијским листама, које не захтевају преписивањ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система управљања леков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 формулар (листа лекова болниц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љенски формулар (листа лекова за свако одељењ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ија за лекове болниц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е терапијске протокол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ни мониторинг потрошње лекова (АТЦ/ДДД методологиј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а контрола прописивања лекова на свим одељењ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 између лекова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глед интернет ресурса који се могу користити  у циљу откривања интеракција између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чан ефекат лека може бити промењен деловањем другог лека или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ав вид фармаколошке или клиничке реакције на лек јесте посредован интеракцијама између лекова које могу имати штетан и непланиран исх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могу бити планиране у циљу постизања повољнијег учинка на коначан исход лечења болести од интер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-ле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 према механизму настан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фармацеутске интера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фармакокинетске интера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фармакодинамске интера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интерак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-хемијске природ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ју се ван организма пацијента, 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tr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дешавају у поступку припреме лека, услед мешања два или више лека у истој бризгалици или услед додавања лека инфузионом раств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авају у виду замућења раствора, дисколорације раствора, стварања преципитата, али могу бити присутне и без видљивих физичко-хемијских промена, што онемогућава њихово детектва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кинетске интера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vo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фармакокинетских интеракција се рефлектују у промени концентрације лека у кр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 нивоу апсорпције, дистрибуције, метаболизма и елимин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су резултат промене концентрације лека у кр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динамске интера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vo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е до промене ефекта лека (смањење или појачање), док се концентрација лека у крви не м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ј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ивоу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 процесе синергизма и антагон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ргиз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ек- лек интеракција која узрокује 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о дејство два лека подразумева ефекат који је већи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енцирајућ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инергиз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једнак збиру појединачних дејстaва лекова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итив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инергиз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агониз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ек-лек интеракција услед које је укупно дејство лекова мање у односу на збир ефеката појединачних леко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рмаколошки антагон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итивн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омпетитивни антагониз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ње механизма настанка лек-лек интеракција је кључно у процесима превенције, ране детекције и правовременог лечења њихових послед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у евалуације лек-лек интеракције фармацеут можеу користити доступне књиг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ley’s Drug Intera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електронске базе података које се односе на интеракције између леков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pocrates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icromede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edscape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rugs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т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лек–лек интеракција, коначан ефекат лека може бити измењен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ицајем хране, алкохола, фактора околине, као и због присуства других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е и непланиране последице интеракција између лекова се могу манифестовати на више начин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авањем неповољног клиничког исх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ршањем основне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авањем новог клиничког ст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ом нежељених реакција датог лека 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авањем токсичности л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система управљања леков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рска набавка лекова, према потребама у односу на болнички формулар и терапијским протоколи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авка лекова ван болничког формулара, за појединачног пацијен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ан систем издавања лекова са двоструком провер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џетско финансирање појединих одељења у оквиру болниц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е чување л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одговарајуће документац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болничког формул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 формулар произилази из тендерске листе лекова (нису исти!!!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и договор здарвственог особља болнице око начина медикаментног лечења болести и стања којима се та болница ба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а свих лекова који се користе у болниви, а око које су сагласни здравствени радници ис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болничког формул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о име лека – Увек има предност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од (АТЦ – Анатомско Терапијско Хемијска класификац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у лека у том обл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ошња лека у предходној год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ћено име лека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навести и вредност Дефинисане Дневне Дозе за тај лек (ДД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 формул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треба да буду поређани по АТЦ к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су да документ буде урађен у Ексцел програ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да болнички формулар усвоји на Комисији за лекове бол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 је стручних колегијума одговарајућих одељења, и заснива се на реалним и рационалним потреб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 формул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ија за лекове треба да тражи образложење за сваки наведени л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опрез – скупи лекови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изија  болничког формулара једном годиш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ан свим запосленима у болн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љенски формул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за формирање болничког формулара, садржи све лекове који се користе рутински на одељењ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и колегијум одеље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ра се на резултатима систематских прегледних чланака, мета анализа или појединачних клиничких студија које су прошле тестове валидности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и требало да садржи лекове које то одељење не користи рутински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7:41:17Z</dcterms:created>
  <dc:creator>Marina Kostic</dc:creator>
  <dc:description/>
  <dc:language>en-US</dc:language>
  <cp:lastModifiedBy>Marina Kostic</cp:lastModifiedBy>
  <dcterms:modified xsi:type="dcterms:W3CDTF">2023-09-11T10:09:36Z</dcterms:modified>
  <cp:revision>41</cp:revision>
  <dc:subject/>
  <dc:title>Улога фармацеута у болничкој апотеци</dc:title>
</cp:coreProperties>
</file>